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85F5-2C9F-4A10-B59F-74D633D5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A7D2-7E92-4163-9FE5-F4A6A6CB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C290-85EE-438C-AFE6-1B7EBA1F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A951-5270-4FD4-8DA9-45A537E9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5EE1C-368D-4368-9982-23A8E90D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B0AB3-CCFB-403D-B1E9-B2E04832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42352-0ABD-4BB3-B9A5-4613C795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B35EB-3B4C-4B69-A9AA-C83661A0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6424F-ACCD-41E8-A558-00E3EC15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D6C0A-4D53-4DE7-BFA0-A13095AA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33FDD-FDC4-4273-AF1A-FFEE3226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5C1D-6164-4984-92B3-0D4E9ECE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A7EB2-5E63-4579-B973-0678C46E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A9C18-2D55-4F21-B03E-F169DFFD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5CF87-56E2-453A-9F34-3B6F38A7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74075-285E-43D6-9C89-3FD17385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71BD1-8354-4935-9AE5-481A7D58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3324-BF2C-416E-AD60-F0F2A2CF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0CF4-7DF9-4B08-9D27-5E21EDDA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2778-918F-4A7D-933F-97A8EE5B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C929-118D-4F91-934F-AEBB727B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E81B-2E88-48C6-B003-241D1FC3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71F3-225B-4BA8-B35E-27D67BE4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24EB-E5EB-45D9-B769-8EAD4F16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1062-5131-4611-92D2-AFFBD88D85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EE14-2C4C-4F09-82FC-5C83CF0B65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Go Tell The Good New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y of 1 &amp; 2 Thessalon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ages 108-11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400" y="153720"/>
            <a:ext cx="822636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2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1:3-12)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6800" y="1598760"/>
            <a:ext cx="86835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comforted in your afflictions; God will ave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l thanked them for their steadfast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knew their t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8080" indent="-2383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would see that justice was d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said that they would continue to pray that they would grow in every way, that they would glorify Christ, and that He may glorify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53720"/>
            <a:ext cx="822636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2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2:1-12) </a:t>
            </a:r>
            <a:r>
              <a:rPr b="0" lang="en-US" sz="2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6800" y="1598760"/>
            <a:ext cx="86835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be disturbed by false teaching regarding the Lord’s second com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:1-1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rd will not return right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postasy will come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who do not want the truth will be given the opportunity to believe a l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2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2:13-17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salonians were called by the gosp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admonished the brethren to stand firm and hold the traditions that they were tau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prayed that Jesus would comfort their hearts and establish them in every good word and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636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2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3:1-18)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6800" y="1598760"/>
            <a:ext cx="868356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asked for their prayers so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the word of the Lord will be received fre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they might be delivered from wicked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l with those who walk disorderly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out of step with the things preached to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not obey the instructions in his first l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not minding their own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use to associate with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636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2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3:1-18)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7160" y="1598760"/>
            <a:ext cx="868680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use to associate with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they may be asha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count them as enem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onish them as br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personally signed his letters in every epistle he wr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1 Thessalonians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6800" y="1598760"/>
            <a:ext cx="86835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recorded epistle written by Pa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ten from Corinth in A.D. 51-5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othy and Silas had joined Pa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for the l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trengthen the faith of the Christian’s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ssure them of Christ’s return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1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1:2-10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6800" y="1599840"/>
            <a:ext cx="868356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, Silas and Timothy thanked God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turning from idols to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work in the fa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labor of l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steadfastness of hope in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conversion in spite of great affli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1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2:1-16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6800" y="1598760"/>
            <a:ext cx="86835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visit was not in vain (they did not fai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preaching was never of error, or impurity, or dec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did not seek to please men, but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1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2:1-16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6800" y="1598760"/>
            <a:ext cx="86835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orked day and night not to be a burden to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did not use flattering words, nor did they preach out of gr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d responded by accepting the gospel as God’s 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1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2:17-3:10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6800" y="1598400"/>
            <a:ext cx="868356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was worried that the persecution would make them give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nted to go to them, but Satan stopped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ent Timothy to strengthen and encourage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othy returned with good news about their faith and l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was comforted by the n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1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4:1-18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6800" y="1598760"/>
            <a:ext cx="86835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cted on how to walk and please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rsion means a special kind of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ain from sexual immor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cheat your brother in any 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 quietly and take care of your own aff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who have died in Christ are sa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ill return with Je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ad in Christ will be raised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1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(5:1-28)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6800" y="1598760"/>
            <a:ext cx="86835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ime of His coming is unknown (5:1-1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rd will come as a thief in the n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s said, “Peace and Safet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, be warned and be rea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8080" indent="-2383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 and be so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8080" indent="-2383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lvation is at st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ctions for the church, and closing remarks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:12-2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400" y="153720"/>
            <a:ext cx="822636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ummary Of 2 Thessalonians</a:t>
            </a:r>
            <a:br>
              <a:rPr sz="40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6800" y="1599840"/>
            <a:ext cx="868356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hort time had elapsed between the first letter and the second l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ed for a second l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larify and correct misunderstandings from the first letter in the minds of the Thessalon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344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make them aware that false teachers had presented a letter to them in his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00:42:13Z</dcterms:created>
  <dc:creator>robert marshall</dc:creator>
  <dc:description/>
  <dc:language>en-US</dc:language>
  <cp:lastModifiedBy>Frank D Vines</cp:lastModifiedBy>
  <dcterms:modified xsi:type="dcterms:W3CDTF">2007-03-21T21:09:26Z</dcterms:modified>
  <cp:revision>11</cp:revision>
  <dc:subject/>
  <dc:title>Go Tell The Good News</dc:title>
</cp:coreProperties>
</file>